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15C-3AC8-4AC6-B77E-80F623B5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B83-6652-4FAF-B244-505C22D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5F5-DB4E-4125-A4C5-A97BCD4F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98-D045-456B-AD35-96DAC2EF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80E-A61C-4098-B35B-388B4AF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6D0-9FF6-46A9-B378-C278C6A5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6DF-9B0B-47E7-A802-5AE7203E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2EE-0B83-4EC2-A291-D3A543B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85C-B656-4D43-9F42-53CD8D4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8F4-941C-4257-B51C-A1D6093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C26-A8DF-4744-B750-95F08F3C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E5B-BC8E-4076-9920-F5762F6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15C8-CC51-460D-9FB1-5D8B7E5F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3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3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3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03:45Z</dcterms:created>
  <dc:creator>USER</dc:creator>
  <dc:description/>
  <dc:language>en-US</dc:language>
  <cp:lastModifiedBy>USER</cp:lastModifiedBy>
  <dcterms:modified xsi:type="dcterms:W3CDTF">2002-11-01T03:05:55Z</dcterms:modified>
  <cp:revision>1</cp:revision>
  <dc:subject/>
  <dc:title>PowerPoint Presentation</dc:title>
</cp:coreProperties>
</file>